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B80F-4FD5-437C-A1B8-4C44F9F14BDA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3D42-E48D-49B3-AF7B-0108FB63B5A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92E6-DC91-4866-ADF5-E06D18E6479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940E-734C-43D9-8C91-B0F086A32D6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0A2B-280C-4EDA-BA72-7E46239FDFE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54A7-CF22-473F-9401-F9374D9C3D1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FA97-19F9-4DEB-BD95-42207F08080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46C2-A5B5-4648-BFAA-7E0340B9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CDAD-5334-43DA-A828-DE864794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651A-6C0C-48C5-8D43-859F6298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5CA3-4929-48E6-A089-42888706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BF09-ABC8-4010-B36F-5D71C1CE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6BA0-71BB-4BFE-83F3-B529014D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31A4-B8E2-49D9-B8E1-AF81C029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E67A-F35E-41C3-8B86-ADA8B87E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CC64-022D-497C-8E88-8C822F86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F3E5-D9B5-441A-856F-0EE6B54B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9D08-2092-4FC2-8CB7-712A93BD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97C3-5905-4941-BE27-A674F47D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D63C-323F-4E57-B45C-99C52931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5F2D-0591-45CE-8E39-D7A74C70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79DF-465C-4311-843B-BC4E04AC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3748-3328-4B1B-9B4B-F34AF942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2E52-480F-4686-BE7F-531C4E97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BF8F-366D-4A1F-A2DC-9F8EC5E0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50C5-2356-47A8-B723-0BEB3DB8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B1D1-3233-4747-93C3-EC2F8D7E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63BA-8356-426F-A9C9-686740D1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B8F2-F3CE-4662-BDC4-C83E3CD6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FD79-0ABD-41D8-AEAB-04ED85BF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E288-1DDF-477C-A2F9-CE088DA4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97D0-FB0B-4B6E-A3AF-AF5A9EA0E1A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A1B7-F39A-4263-83C0-FB50916662B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60020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jiet ar jaunieti sagatavošanos intervijai, uzvedību intervijas laikā un pēc t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Atcerēties, ka jau tagad tiek veidota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jaunieša-darbinieka reputācija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INTERVIJAS ETIĶE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3924360" y="4581360"/>
            <a:ext cx="12952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915920"/>
            <a:ext cx="6192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22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īt visu, ko var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st intervijas mērķi – kas jāuzzina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īt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t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000" y="1557360"/>
            <a:ext cx="828036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erakstīt intervējamās personas vārdu, uzvārdu un amat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skaidrot, kur notiks intervija un kā tur nokļū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kavēt, taču neierasties arī pārāk savlaicīg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teikti informēt par kavēšanu vai neierašan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evērot uzņēmuma iekšējās kārtības noteikum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  <a:p>
            <a:pPr lvl="1" marL="42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teikties par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gt ieteikt vēl kādu, kurš varētu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īt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t uzzināto informāciju un kā to izmantot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veltīto laiku un atbalstu, jaunietis parāda, ka prot novērtēt pūles un rada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7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2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savus aizspriedumus un stereotipus par darba tir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iespējas atbalstīt jaunieš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76720" y="4653000"/>
            <a:ext cx="2447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209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es varu palīdzēt savam bērnam iepazīt darba tir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Mani aizspriedumi un stereotipi, to ietekme uz manu bēr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profesijas pārstāv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darba vietas darbi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eredzējis darba meklē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lsētas/ciema/novada iedzīvo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Latvijas pilson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VARU PALĪDZĒT SAVAM BĒRNAM IEPAZĪT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builds,business,businessmen,challenges,complete,Concepts,Fotolia,ideas,jigsaws,men,Photographs,pieces,pushes,puzzles,solutions,solve,struggles,teams,teamwork,work"/>
          <p:cNvPicPr/>
          <p:nvPr/>
        </p:nvPicPr>
        <p:blipFill>
          <a:blip r:embed="rId1"/>
          <a:srcRect l="9303" t="16281" r="9280" b="13932"/>
          <a:stretch/>
        </p:blipFill>
        <p:spPr>
          <a:xfrm>
            <a:off x="5867280" y="4324320"/>
            <a:ext cx="223380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557000"/>
            <a:ext cx="82296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Aizspriedumi vai stereotipi var atturēt jaunieti no mēģinājumiem iepazīt noteiktas profesionālās jom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gatīva pieredze var radīt negatīvu attieksmi pret darba devējiem, darba interviju vai noteiktām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ANI AIZSPRIEDUMI UN STEREOTIPI PAR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800080"/>
                </a:solidFill>
                <a:latin typeface="Calibri"/>
              </a:rPr>
              <a:t>AIZSPRIEDUMI UN STEREOTIP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412640"/>
            <a:ext cx="8650080" cy="53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m jā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s nedrīkst 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nav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profesionāl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augstāk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9" name="Picture 7" descr="negative.WMF"/>
          <p:cNvPicPr/>
          <p:nvPr/>
        </p:nvPicPr>
        <p:blipFill>
          <a:blip r:embed="rId1"/>
          <a:srcRect l="8527" t="8641" r="8984" b="12122"/>
          <a:stretch/>
        </p:blipFill>
        <p:spPr>
          <a:xfrm>
            <a:off x="7164360" y="4941720"/>
            <a:ext cx="17146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2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JIET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4000" y="1844640"/>
            <a:ext cx="8424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līdziet jaunietim sagatavot jautājumus, ko uzdot, norādiet uz tēmām, par kurām jautāt un paskaidrojiet, kāpēc to ir svarīgi uzzināt.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academic,careers,children,daughters,education,employees,families,females,girls,instructors,jobs,mothers,occupations,parents,people,people at work,persons,schools,students,teachers,tutors,vocations,women,workers,working"/>
          <p:cNvPicPr/>
          <p:nvPr/>
        </p:nvPicPr>
        <p:blipFill>
          <a:blip r:embed="rId1"/>
          <a:stretch/>
        </p:blipFill>
        <p:spPr>
          <a:xfrm>
            <a:off x="3348000" y="378936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10:33:26Z</dcterms:modified>
  <cp:revision>374</cp:revision>
  <dc:subject/>
  <dc:title>Slide 1</dc:title>
</cp:coreProperties>
</file>